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A19-6FB8-46CE-81DE-11BFFFB5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22D-7E33-4803-AC87-46197806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81C-D69D-452E-B4C4-C5ACBAAC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111-F7D7-4DBA-A007-915063A5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A53C-7044-48F7-B081-67386487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109E-1E34-4EFC-9AA2-F4A9A140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8A06-AAB5-4E73-BD5C-CF2B0A8C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774D-3B87-41D8-86CD-CC4C5F98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7306-815E-46D8-B2FB-484E7E95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E1BA-9674-4F52-AB82-96C98908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D3C8-F76E-42AF-92C9-AB6CE556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C1A-9107-4E2E-B203-A63840F3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DB98-1068-44E0-AC4E-1B54EBA4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5CA9-4758-40AF-ABC7-0906C7AC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039B-E95E-4DBC-B43F-A6754965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E785-CEB4-4E8A-BAA8-D0558718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1C59-94AA-4A03-B0C1-D33C73AD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BA10-A5FE-4177-AA8B-E99A61E6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003-57F7-455B-ACD8-7E86F6B1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B632-AE24-4AAA-946D-67F93AD9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C29-986B-4BD0-BADF-D8640A07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C4C-42E8-4138-A892-BE4BFD4F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F45E-C845-4DB8-B0FB-BE37338C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C74-4A26-4CED-8C8B-BB0E97D3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" Target="slide9.xml"/><Relationship Id="rId14" Type="http://schemas.openxmlformats.org/officeDocument/2006/relationships/slide" Target="slide10.xml"/><Relationship Id="rId15" Type="http://schemas.openxmlformats.org/officeDocument/2006/relationships/slide" Target="slide10.xml"/><Relationship Id="rId16" Type="http://schemas.openxmlformats.org/officeDocument/2006/relationships/slide" Target="slide11.xml"/><Relationship Id="rId17" Type="http://schemas.openxmlformats.org/officeDocument/2006/relationships/slide" Target="slide11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3.xml"/><Relationship Id="rId21" Type="http://schemas.openxmlformats.org/officeDocument/2006/relationships/slide" Target="slide14.xml"/><Relationship Id="rId22" Type="http://schemas.openxmlformats.org/officeDocument/2006/relationships/slideLayout" Target="../slideLayouts/slideLayout1.xml"/><Relationship Id="rId23" Type="http://schemas.openxmlformats.org/officeDocument/2006/relationships/slideLayout" Target="../slideLayouts/slideLayout2.xml"/><Relationship Id="rId24" Type="http://schemas.openxmlformats.org/officeDocument/2006/relationships/slideLayout" Target="../slideLayouts/slideLayout3.xml"/><Relationship Id="rId25" Type="http://schemas.openxmlformats.org/officeDocument/2006/relationships/slideLayout" Target="../slideLayouts/slideLayout4.xml"/><Relationship Id="rId26" Type="http://schemas.openxmlformats.org/officeDocument/2006/relationships/slideLayout" Target="../slideLayouts/slideLayout5.xml"/><Relationship Id="rId27" Type="http://schemas.openxmlformats.org/officeDocument/2006/relationships/slideLayout" Target="../slideLayouts/slideLayout6.xml"/><Relationship Id="rId28" Type="http://schemas.openxmlformats.org/officeDocument/2006/relationships/slideLayout" Target="../slideLayouts/slideLayout7.xml"/><Relationship Id="rId29" Type="http://schemas.openxmlformats.org/officeDocument/2006/relationships/slideLayout" Target="../slideLayouts/slideLayout8.xml"/><Relationship Id="rId30" Type="http://schemas.openxmlformats.org/officeDocument/2006/relationships/slideLayout" Target="../slideLayouts/slideLayout9.xml"/><Relationship Id="rId31" Type="http://schemas.openxmlformats.org/officeDocument/2006/relationships/slideLayout" Target="../slideLayouts/slideLayout10.xml"/><Relationship Id="rId32" Type="http://schemas.openxmlformats.org/officeDocument/2006/relationships/slideLayout" Target="../slideLayouts/slideLayout11.xml"/><Relationship Id="rId3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" Target="slide9.xml"/><Relationship Id="rId14" Type="http://schemas.openxmlformats.org/officeDocument/2006/relationships/slide" Target="slide10.xml"/><Relationship Id="rId15" Type="http://schemas.openxmlformats.org/officeDocument/2006/relationships/slide" Target="slide10.xml"/><Relationship Id="rId16" Type="http://schemas.openxmlformats.org/officeDocument/2006/relationships/slide" Target="slide11.xml"/><Relationship Id="rId17" Type="http://schemas.openxmlformats.org/officeDocument/2006/relationships/slide" Target="slide11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3.xml"/><Relationship Id="rId21" Type="http://schemas.openxmlformats.org/officeDocument/2006/relationships/slide" Target="slide14.xml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BA61-7E1F-40B3-B29E-49574C5EAC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rId2" action="ppaction://hlinksldjump"/>
          </p:cNvPr>
          <p:cNvSpPr/>
          <p:nvPr/>
        </p:nvSpPr>
        <p:spPr>
          <a:xfrm>
            <a:off x="7358040" y="6143760"/>
            <a:ext cx="719280" cy="576000"/>
          </a:xfrm>
          <a:custGeom>
            <a:avLst/>
            <a:gdLst>
              <a:gd name="textAreaLeft" fmla="*/ 37080 w 719280"/>
              <a:gd name="textAreaRight" fmla="*/ 682200 w 719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6970" h="21600">
                <a:moveTo>
                  <a:pt x="0" y="0"/>
                </a:moveTo>
                <a:lnTo>
                  <a:pt x="26970" y="0"/>
                </a:lnTo>
                <a:lnTo>
                  <a:pt x="26970" y="21600"/>
                </a:lnTo>
                <a:lnTo>
                  <a:pt x="0" y="21600"/>
                </a:lnTo>
                <a:close/>
              </a:path>
              <a:path fill="lightenLess" w="26970" h="21600">
                <a:moveTo>
                  <a:pt x="0" y="0"/>
                </a:moveTo>
                <a:lnTo>
                  <a:pt x="26970" y="0"/>
                </a:lnTo>
                <a:lnTo>
                  <a:pt x="25570" y="1400"/>
                </a:lnTo>
                <a:lnTo>
                  <a:pt x="1400" y="1400"/>
                </a:lnTo>
                <a:close/>
              </a:path>
              <a:path fill="darken" w="26970" h="21600">
                <a:moveTo>
                  <a:pt x="26970" y="0"/>
                </a:moveTo>
                <a:lnTo>
                  <a:pt x="26970" y="21600"/>
                </a:lnTo>
                <a:lnTo>
                  <a:pt x="25570" y="20200"/>
                </a:lnTo>
                <a:lnTo>
                  <a:pt x="25570" y="1400"/>
                </a:lnTo>
                <a:close/>
              </a:path>
              <a:path fill="darkenLess" w="26970" h="21600">
                <a:moveTo>
                  <a:pt x="26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0" y="20200"/>
                </a:lnTo>
                <a:close/>
              </a:path>
              <a:path fill="lighten" w="26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0" h="21600">
                <a:moveTo>
                  <a:pt x="13485" y="3837"/>
                </a:moveTo>
                <a:lnTo>
                  <a:pt x="16061" y="6448"/>
                </a:lnTo>
                <a:lnTo>
                  <a:pt x="16061" y="4707"/>
                </a:lnTo>
                <a:lnTo>
                  <a:pt x="17837" y="4707"/>
                </a:lnTo>
                <a:lnTo>
                  <a:pt x="17837" y="8224"/>
                </a:lnTo>
                <a:lnTo>
                  <a:pt x="20448" y="10800"/>
                </a:lnTo>
                <a:lnTo>
                  <a:pt x="18794" y="10800"/>
                </a:lnTo>
                <a:lnTo>
                  <a:pt x="18794" y="17989"/>
                </a:lnTo>
                <a:lnTo>
                  <a:pt x="8176" y="17989"/>
                </a:lnTo>
                <a:lnTo>
                  <a:pt x="8176" y="10800"/>
                </a:lnTo>
                <a:lnTo>
                  <a:pt x="6522" y="10800"/>
                </a:lnTo>
                <a:close/>
              </a:path>
              <a:path fill="darkenLess" w="26970" h="21600">
                <a:moveTo>
                  <a:pt x="16061" y="6448"/>
                </a:moveTo>
                <a:lnTo>
                  <a:pt x="16061" y="4707"/>
                </a:lnTo>
                <a:lnTo>
                  <a:pt x="17837" y="4707"/>
                </a:lnTo>
                <a:lnTo>
                  <a:pt x="17837" y="8224"/>
                </a:lnTo>
                <a:close/>
              </a:path>
              <a:path fill="darkenLess" w="26970" h="21600">
                <a:moveTo>
                  <a:pt x="12562" y="14299"/>
                </a:moveTo>
                <a:lnTo>
                  <a:pt x="14407" y="14299"/>
                </a:lnTo>
                <a:lnTo>
                  <a:pt x="14407" y="17989"/>
                </a:lnTo>
                <a:lnTo>
                  <a:pt x="18794" y="17989"/>
                </a:lnTo>
                <a:lnTo>
                  <a:pt x="18794" y="10800"/>
                </a:lnTo>
                <a:lnTo>
                  <a:pt x="8176" y="10800"/>
                </a:lnTo>
                <a:lnTo>
                  <a:pt x="8176" y="17989"/>
                </a:lnTo>
                <a:lnTo>
                  <a:pt x="1256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>
            <a:off x="6643800" y="614376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10800"/>
                </a:moveTo>
                <a:lnTo>
                  <a:pt x="19149" y="3794"/>
                </a:lnTo>
                <a:lnTo>
                  <a:pt x="1914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9">
            <a:hlinkClick r:id="" action="ppaction://hlinkshowjump?jump=nextslide"/>
          </p:cNvPr>
          <p:cNvSpPr/>
          <p:nvPr/>
        </p:nvSpPr>
        <p:spPr>
          <a:xfrm>
            <a:off x="8143920" y="614376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Rectangle 11" descr=""/>
          <p:cNvPicPr/>
          <p:nvPr/>
        </p:nvPicPr>
        <p:blipFill>
          <a:blip r:embed="rId3"/>
          <a:stretch/>
        </p:blipFill>
        <p:spPr>
          <a:xfrm>
            <a:off x="8424720" y="3279600"/>
            <a:ext cx="511200" cy="938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D:\485706675.jpg"/>
          <p:cNvPicPr/>
          <p:nvPr/>
        </p:nvPicPr>
        <p:blipFill>
          <a:blip r:embed="rId4"/>
          <a:stretch/>
        </p:blipFill>
        <p:spPr>
          <a:xfrm>
            <a:off x="0" y="5143680"/>
            <a:ext cx="3429000" cy="1714320"/>
          </a:xfrm>
          <a:prstGeom prst="rect">
            <a:avLst/>
          </a:prstGeom>
          <a:ln w="0">
            <a:noFill/>
          </a:ln>
        </p:spPr>
      </p:pic>
      <p:sp>
        <p:nvSpPr>
          <p:cNvPr id="9" name="Прямоугольник 24"/>
          <p:cNvSpPr/>
          <p:nvPr/>
        </p:nvSpPr>
        <p:spPr>
          <a:xfrm>
            <a:off x="226800" y="5214960"/>
            <a:ext cx="326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25"/>
          <p:cNvSpPr/>
          <p:nvPr/>
        </p:nvSpPr>
        <p:spPr>
          <a:xfrm>
            <a:off x="864720" y="5214960"/>
            <a:ext cx="50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0"/>
          <p:cNvSpPr/>
          <p:nvPr/>
        </p:nvSpPr>
        <p:spPr>
          <a:xfrm>
            <a:off x="1648800" y="5214960"/>
            <a:ext cx="349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6"/>
          <p:cNvSpPr/>
          <p:nvPr/>
        </p:nvSpPr>
        <p:spPr>
          <a:xfrm>
            <a:off x="2290320" y="5214960"/>
            <a:ext cx="315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Прямоугольник 37"/>
          <p:cNvSpPr/>
          <p:nvPr/>
        </p:nvSpPr>
        <p:spPr>
          <a:xfrm>
            <a:off x="2934720" y="5214960"/>
            <a:ext cx="349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Прямоугольник 38"/>
          <p:cNvSpPr/>
          <p:nvPr/>
        </p:nvSpPr>
        <p:spPr>
          <a:xfrm>
            <a:off x="215640" y="5786280"/>
            <a:ext cx="43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О</a:t>
            </a:r>
            <a:r>
              <a:rPr b="0" lang="ru-RU" sz="1800" spc="-1" strike="noStrike" u="sng" baseline="-25000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Прямоугольник 39"/>
          <p:cNvSpPr/>
          <p:nvPr/>
        </p:nvSpPr>
        <p:spPr>
          <a:xfrm>
            <a:off x="942840" y="5786280"/>
            <a:ext cx="43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12" action="ppaction://hlinksldjump"/>
              </a:rPr>
              <a:t>О</a:t>
            </a:r>
            <a:r>
              <a:rPr b="0" lang="ru-RU" sz="1800" spc="-1" strike="noStrike" u="sng" baseline="-25000">
                <a:solidFill>
                  <a:srgbClr val="009999"/>
                </a:solidFill>
                <a:uFillTx/>
                <a:latin typeface="Comic Sans MS"/>
                <a:hlinkClick r:id="rId13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Прямоугольник 40"/>
          <p:cNvSpPr/>
          <p:nvPr/>
        </p:nvSpPr>
        <p:spPr>
          <a:xfrm>
            <a:off x="1657080" y="5786280"/>
            <a:ext cx="43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14" action="ppaction://hlinksldjump"/>
              </a:rPr>
              <a:t>О</a:t>
            </a:r>
            <a:r>
              <a:rPr b="0" lang="ru-RU" sz="1800" spc="-1" strike="noStrike" u="sng" baseline="-25000">
                <a:solidFill>
                  <a:srgbClr val="009999"/>
                </a:solidFill>
                <a:uFillTx/>
                <a:latin typeface="Comic Sans MS"/>
                <a:hlinkClick r:id="rId15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Прямоугольник 46"/>
          <p:cNvSpPr/>
          <p:nvPr/>
        </p:nvSpPr>
        <p:spPr>
          <a:xfrm>
            <a:off x="2442960" y="5786280"/>
            <a:ext cx="43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16" action="ppaction://hlinksldjump"/>
              </a:rPr>
              <a:t>О</a:t>
            </a:r>
            <a:r>
              <a:rPr b="0" lang="ru-RU" sz="1800" spc="-1" strike="noStrike" u="sng" baseline="-25000">
                <a:solidFill>
                  <a:srgbClr val="009999"/>
                </a:solidFill>
                <a:uFillTx/>
                <a:latin typeface="Comic Sans MS"/>
                <a:hlinkClick r:id="rId17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Прямоугольник 47"/>
          <p:cNvSpPr/>
          <p:nvPr/>
        </p:nvSpPr>
        <p:spPr>
          <a:xfrm>
            <a:off x="156960" y="6286680"/>
            <a:ext cx="43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18" action="ppaction://hlinksldjump"/>
              </a:rPr>
              <a:t>О</a:t>
            </a:r>
            <a:r>
              <a:rPr b="0" lang="ru-RU" sz="1800" spc="-1" strike="noStrike" u="sng" baseline="-25000">
                <a:solidFill>
                  <a:srgbClr val="009999"/>
                </a:solidFill>
                <a:uFillTx/>
                <a:latin typeface="Comic Sans MS"/>
                <a:hlinkClick r:id="rId19" action="ppaction://hlinksldjump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Прямоугольник 48"/>
          <p:cNvSpPr/>
          <p:nvPr/>
        </p:nvSpPr>
        <p:spPr>
          <a:xfrm>
            <a:off x="874080" y="6357960"/>
            <a:ext cx="461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20" action="ppaction://hlinksldjump"/>
              </a:rPr>
              <a:t>П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Прямоугольник 49"/>
          <p:cNvSpPr/>
          <p:nvPr/>
        </p:nvSpPr>
        <p:spPr>
          <a:xfrm>
            <a:off x="1571760" y="6357960"/>
            <a:ext cx="442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21" action="ppaction://hlinksldjump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2"/>
    <p:sldLayoutId id="2147483650" r:id="rId23"/>
    <p:sldLayoutId id="2147483651" r:id="rId24"/>
    <p:sldLayoutId id="2147483652" r:id="rId25"/>
    <p:sldLayoutId id="2147483653" r:id="rId26"/>
    <p:sldLayoutId id="2147483654" r:id="rId27"/>
    <p:sldLayoutId id="2147483655" r:id="rId28"/>
    <p:sldLayoutId id="2147483656" r:id="rId29"/>
    <p:sldLayoutId id="2147483657" r:id="rId30"/>
    <p:sldLayoutId id="2147483658" r:id="rId31"/>
    <p:sldLayoutId id="2147483659" r:id="rId32"/>
    <p:sldLayoutId id="2147483660" r:id="rId3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7">
            <a:hlinkClick r:id="rId2" action="ppaction://hlinksldjump"/>
          </p:cNvPr>
          <p:cNvSpPr/>
          <p:nvPr/>
        </p:nvSpPr>
        <p:spPr>
          <a:xfrm>
            <a:off x="7358040" y="6143760"/>
            <a:ext cx="719280" cy="576000"/>
          </a:xfrm>
          <a:custGeom>
            <a:avLst/>
            <a:gdLst>
              <a:gd name="textAreaLeft" fmla="*/ 37080 w 719280"/>
              <a:gd name="textAreaRight" fmla="*/ 682200 w 719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6970" h="21600">
                <a:moveTo>
                  <a:pt x="0" y="0"/>
                </a:moveTo>
                <a:lnTo>
                  <a:pt x="26970" y="0"/>
                </a:lnTo>
                <a:lnTo>
                  <a:pt x="26970" y="21600"/>
                </a:lnTo>
                <a:lnTo>
                  <a:pt x="0" y="21600"/>
                </a:lnTo>
                <a:close/>
              </a:path>
              <a:path fill="lightenLess" w="26970" h="21600">
                <a:moveTo>
                  <a:pt x="0" y="0"/>
                </a:moveTo>
                <a:lnTo>
                  <a:pt x="26970" y="0"/>
                </a:lnTo>
                <a:lnTo>
                  <a:pt x="25570" y="1400"/>
                </a:lnTo>
                <a:lnTo>
                  <a:pt x="1400" y="1400"/>
                </a:lnTo>
                <a:close/>
              </a:path>
              <a:path fill="darken" w="26970" h="21600">
                <a:moveTo>
                  <a:pt x="26970" y="0"/>
                </a:moveTo>
                <a:lnTo>
                  <a:pt x="26970" y="21600"/>
                </a:lnTo>
                <a:lnTo>
                  <a:pt x="25570" y="20200"/>
                </a:lnTo>
                <a:lnTo>
                  <a:pt x="25570" y="1400"/>
                </a:lnTo>
                <a:close/>
              </a:path>
              <a:path fill="darkenLess" w="26970" h="21600">
                <a:moveTo>
                  <a:pt x="26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0" y="20200"/>
                </a:lnTo>
                <a:close/>
              </a:path>
              <a:path fill="lighten" w="26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0" h="21600">
                <a:moveTo>
                  <a:pt x="13485" y="3837"/>
                </a:moveTo>
                <a:lnTo>
                  <a:pt x="16061" y="6448"/>
                </a:lnTo>
                <a:lnTo>
                  <a:pt x="16061" y="4707"/>
                </a:lnTo>
                <a:lnTo>
                  <a:pt x="17837" y="4707"/>
                </a:lnTo>
                <a:lnTo>
                  <a:pt x="17837" y="8224"/>
                </a:lnTo>
                <a:lnTo>
                  <a:pt x="20448" y="10800"/>
                </a:lnTo>
                <a:lnTo>
                  <a:pt x="18794" y="10800"/>
                </a:lnTo>
                <a:lnTo>
                  <a:pt x="18794" y="17989"/>
                </a:lnTo>
                <a:lnTo>
                  <a:pt x="8176" y="17989"/>
                </a:lnTo>
                <a:lnTo>
                  <a:pt x="8176" y="10800"/>
                </a:lnTo>
                <a:lnTo>
                  <a:pt x="6522" y="10800"/>
                </a:lnTo>
                <a:close/>
              </a:path>
              <a:path fill="darkenLess" w="26970" h="21600">
                <a:moveTo>
                  <a:pt x="16061" y="6448"/>
                </a:moveTo>
                <a:lnTo>
                  <a:pt x="16061" y="4707"/>
                </a:lnTo>
                <a:lnTo>
                  <a:pt x="17837" y="4707"/>
                </a:lnTo>
                <a:lnTo>
                  <a:pt x="17837" y="8224"/>
                </a:lnTo>
                <a:close/>
              </a:path>
              <a:path fill="darkenLess" w="26970" h="21600">
                <a:moveTo>
                  <a:pt x="12562" y="14299"/>
                </a:moveTo>
                <a:lnTo>
                  <a:pt x="14407" y="14299"/>
                </a:lnTo>
                <a:lnTo>
                  <a:pt x="14407" y="17989"/>
                </a:lnTo>
                <a:lnTo>
                  <a:pt x="18794" y="17989"/>
                </a:lnTo>
                <a:lnTo>
                  <a:pt x="18794" y="10800"/>
                </a:lnTo>
                <a:lnTo>
                  <a:pt x="8176" y="10800"/>
                </a:lnTo>
                <a:lnTo>
                  <a:pt x="8176" y="17989"/>
                </a:lnTo>
                <a:lnTo>
                  <a:pt x="1256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" action="ppaction://hlinkshowjump?jump=previousslide"/>
          </p:cNvPr>
          <p:cNvSpPr/>
          <p:nvPr/>
        </p:nvSpPr>
        <p:spPr>
          <a:xfrm>
            <a:off x="6643800" y="614376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10800"/>
                </a:moveTo>
                <a:lnTo>
                  <a:pt x="19149" y="3794"/>
                </a:lnTo>
                <a:lnTo>
                  <a:pt x="1914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>
            <a:hlinkClick r:id="" action="ppaction://hlinkshowjump?jump=nextslide"/>
          </p:cNvPr>
          <p:cNvSpPr/>
          <p:nvPr/>
        </p:nvSpPr>
        <p:spPr>
          <a:xfrm>
            <a:off x="8143920" y="614376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11" descr=""/>
          <p:cNvPicPr/>
          <p:nvPr/>
        </p:nvPicPr>
        <p:blipFill>
          <a:blip r:embed="rId3"/>
          <a:stretch/>
        </p:blipFill>
        <p:spPr>
          <a:xfrm>
            <a:off x="8424720" y="3279600"/>
            <a:ext cx="511200" cy="938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D:\485706675.jpg"/>
          <p:cNvPicPr/>
          <p:nvPr/>
        </p:nvPicPr>
        <p:blipFill>
          <a:blip r:embed="rId4"/>
          <a:stretch/>
        </p:blipFill>
        <p:spPr>
          <a:xfrm>
            <a:off x="0" y="5143680"/>
            <a:ext cx="3429000" cy="17143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4"/>
          <p:cNvSpPr/>
          <p:nvPr/>
        </p:nvSpPr>
        <p:spPr>
          <a:xfrm>
            <a:off x="226800" y="5214960"/>
            <a:ext cx="326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5"/>
          <p:cNvSpPr/>
          <p:nvPr/>
        </p:nvSpPr>
        <p:spPr>
          <a:xfrm>
            <a:off x="864720" y="5214960"/>
            <a:ext cx="50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0"/>
          <p:cNvSpPr/>
          <p:nvPr/>
        </p:nvSpPr>
        <p:spPr>
          <a:xfrm>
            <a:off x="1648800" y="5214960"/>
            <a:ext cx="349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6"/>
          <p:cNvSpPr/>
          <p:nvPr/>
        </p:nvSpPr>
        <p:spPr>
          <a:xfrm>
            <a:off x="2290320" y="5214960"/>
            <a:ext cx="315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7"/>
          <p:cNvSpPr/>
          <p:nvPr/>
        </p:nvSpPr>
        <p:spPr>
          <a:xfrm>
            <a:off x="2934720" y="5214960"/>
            <a:ext cx="349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8"/>
          <p:cNvSpPr/>
          <p:nvPr/>
        </p:nvSpPr>
        <p:spPr>
          <a:xfrm>
            <a:off x="215640" y="5786280"/>
            <a:ext cx="43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О</a:t>
            </a:r>
            <a:r>
              <a:rPr b="0" lang="ru-RU" sz="1800" spc="-1" strike="noStrike" u="sng" baseline="-25000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9"/>
          <p:cNvSpPr/>
          <p:nvPr/>
        </p:nvSpPr>
        <p:spPr>
          <a:xfrm>
            <a:off x="942840" y="5786280"/>
            <a:ext cx="43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12" action="ppaction://hlinksldjump"/>
              </a:rPr>
              <a:t>О</a:t>
            </a:r>
            <a:r>
              <a:rPr b="0" lang="ru-RU" sz="1800" spc="-1" strike="noStrike" u="sng" baseline="-25000">
                <a:solidFill>
                  <a:srgbClr val="009999"/>
                </a:solidFill>
                <a:uFillTx/>
                <a:latin typeface="Comic Sans MS"/>
                <a:hlinkClick r:id="rId13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0"/>
          <p:cNvSpPr/>
          <p:nvPr/>
        </p:nvSpPr>
        <p:spPr>
          <a:xfrm>
            <a:off x="1657080" y="5786280"/>
            <a:ext cx="43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14" action="ppaction://hlinksldjump"/>
              </a:rPr>
              <a:t>О</a:t>
            </a:r>
            <a:r>
              <a:rPr b="0" lang="ru-RU" sz="1800" spc="-1" strike="noStrike" u="sng" baseline="-25000">
                <a:solidFill>
                  <a:srgbClr val="009999"/>
                </a:solidFill>
                <a:uFillTx/>
                <a:latin typeface="Comic Sans MS"/>
                <a:hlinkClick r:id="rId15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6"/>
          <p:cNvSpPr/>
          <p:nvPr/>
        </p:nvSpPr>
        <p:spPr>
          <a:xfrm>
            <a:off x="2442960" y="5786280"/>
            <a:ext cx="43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16" action="ppaction://hlinksldjump"/>
              </a:rPr>
              <a:t>О</a:t>
            </a:r>
            <a:r>
              <a:rPr b="0" lang="ru-RU" sz="1800" spc="-1" strike="noStrike" u="sng" baseline="-25000">
                <a:solidFill>
                  <a:srgbClr val="009999"/>
                </a:solidFill>
                <a:uFillTx/>
                <a:latin typeface="Comic Sans MS"/>
                <a:hlinkClick r:id="rId17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7"/>
          <p:cNvSpPr/>
          <p:nvPr/>
        </p:nvSpPr>
        <p:spPr>
          <a:xfrm>
            <a:off x="156960" y="6286680"/>
            <a:ext cx="43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18" action="ppaction://hlinksldjump"/>
              </a:rPr>
              <a:t>О</a:t>
            </a:r>
            <a:r>
              <a:rPr b="0" lang="ru-RU" sz="1800" spc="-1" strike="noStrike" u="sng" baseline="-25000">
                <a:solidFill>
                  <a:srgbClr val="009999"/>
                </a:solidFill>
                <a:uFillTx/>
                <a:latin typeface="Comic Sans MS"/>
                <a:hlinkClick r:id="rId19" action="ppaction://hlinksldjump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8"/>
          <p:cNvSpPr/>
          <p:nvPr/>
        </p:nvSpPr>
        <p:spPr>
          <a:xfrm>
            <a:off x="874080" y="6357960"/>
            <a:ext cx="461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20" action="ppaction://hlinksldjump"/>
              </a:rPr>
              <a:t>П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9"/>
          <p:cNvSpPr/>
          <p:nvPr/>
        </p:nvSpPr>
        <p:spPr>
          <a:xfrm>
            <a:off x="1571760" y="6357960"/>
            <a:ext cx="442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21" action="ppaction://hlinksldjump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6553080" y="6214680"/>
            <a:ext cx="2019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2EF1-C007-4BAA-85C6-A97C194D26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6312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циальный капитал как фактор инновационного развития европейских стран с малой экономикой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00080" y="1856880"/>
            <a:ext cx="691344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Диссертация на соискание ученой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магистра экономических на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Monotype Corsiva"/>
              </a:rPr>
              <a:t>Научный руководитель: д.э.н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Monotype Corsiva"/>
              </a:rPr>
              <a:t>доцент Е.Л. Давыд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Соискатель: О.Ю. Жуков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Основные результаты</a:t>
            </a:r>
            <a:r>
              <a:rPr b="0" lang="ru-RU" sz="44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285840" y="2000160"/>
            <a:ext cx="8358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928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Инновационный потенциал экономики страны зависит не только от результатов НИОКР, но и от способностей внедрять, осваивать и распространять новые знания в обществе (прежде всего, путем создания социальных сет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Социальный капитал оказывает фундирующее воздействие на инновационную систему, является ее своеобразным каркасом, а также составляет связи и обеспечивает взаимодействие между элементами данной системы (что подтверждается современным подходом к инновациям как к нелинейной систем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Основные результаты</a:t>
            </a:r>
            <a:r>
              <a:rPr b="0" lang="ru-RU" sz="4400" spc="-1" strike="noStrike" baseline="-25000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0" y="1942200"/>
            <a:ext cx="8929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7928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В кризисных условиях, когда особенно необходимо наращивать социальный потенциал общества, в Беларуси имеют место явления, ведущие к деградации социального капит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Социальный капитал имеет как экономические (улучшение качества рабочей силы, повышение производительности труда и т.д.), так и социальные последствия (возникают на стадиях распределения и потребл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Необходима адаптация существующих показателей к методологии EIS-2008 – 2010 и детальное сопоставление Беларуси по уровню инновационного развития с другими европейскими странами, однако в то же время важна и выработка собственных индикаторов инновационного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Основные результаты</a:t>
            </a:r>
            <a:r>
              <a:rPr b="0" lang="ru-RU" sz="4400" spc="-1" strike="noStrike" baseline="-25000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9" name="Rectangle 1"/>
          <p:cNvSpPr/>
          <p:nvPr/>
        </p:nvSpPr>
        <p:spPr>
          <a:xfrm>
            <a:off x="0" y="1516320"/>
            <a:ext cx="8929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7928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Экономическая система нашего государства имеет ряд сходств с отдельными лидерами европейского инновационного развития: преимущественно-рыночный социально-ориентированный характер, направлена на повышение уровня благосостояния в обществе, а не на достижение экономического роста как такового, и по ряду сущностных характеристик соответствует социальному феномену, определяемому сегодня в экономической теории как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социально-ориентированное рыночное хозяйство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, высокий уровень образования гражд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Республика Беларусь уступает европейским странам в следующих сферах инновационного развития: механизмы государственной поддержки инноваций, посредничество между участниками инновационного процесса (венчурная деятельность), затраты предпринимательского сектора, а также инновационный выпуск (занятость в инновационной сферы, экспорт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новых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 продуктов), экономическая эффектив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Положения, выносимые на защиту</a:t>
            </a:r>
            <a:br>
              <a:rPr sz="4000"/>
            </a:b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85840" y="1373760"/>
            <a:ext cx="8572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58920" algn="just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полнена теоретико-методологическая база исследования социального капитала как фактора инновационн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Раскрыта сущность социального капитала как компонента конфигурирования инновационного развития в европейских странах с малой эконом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Определены место и роль социального капитала в инновационных процессах европейских стран с малой экономикой на основе сравнительного анализа показателей инновационного развития Республики Беларусь и инновационных лидеров Евро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Выработаны социально-экономические механизмы повышения роли социального капитала в инновационном развитии белорусской экономики, обозначены проблемы в данной области и некоторые пути их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14200" y="1373760"/>
            <a:ext cx="8572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В отличие от существующих исследований, рассматривается комплексное воздействие социального капитала на инновационное развитие европейских стран с малой экономикой, в то время как в настоящее время преобладают узкоэкономические подходы в исследовании инноваций и социальных факторов в экономике. Использование результатов данной работы даст возможность выработать теоретико-методологические основы оптимизации ресурсы белорусской инновационной системы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Calibri"/>
              </a:rPr>
              <a:t>.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Результаты исследования позволяют пересмотреть традиционные подходы к оценке значения социального капитала в экономической системе, выработать новые механизмы использования данного социально-экономического феномена, расширить представления о возможностях и путях достижения инновационного развития в Республике Белару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Прямоугольник 6" descr=""/>
          <p:cNvPicPr/>
          <p:nvPr/>
        </p:nvPicPr>
        <p:blipFill>
          <a:blip r:embed="rId2"/>
          <a:stretch/>
        </p:blipFill>
        <p:spPr>
          <a:xfrm>
            <a:off x="469800" y="2395440"/>
            <a:ext cx="8204400" cy="9511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000" y="1483920"/>
            <a:ext cx="608940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Акту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Объект и предмет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Цель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Задачи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Научная гипо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Основные результаты</a:t>
            </a:r>
            <a:r>
              <a:rPr b="0" lang="ru-RU" sz="1800" spc="-1" strike="noStrike" u="sng" baseline="-25000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Основные результаты</a:t>
            </a:r>
            <a:r>
              <a:rPr b="0" lang="ru-RU" sz="1800" spc="-1" strike="noStrike" u="sng" baseline="-25000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Основные результаты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Основные результаты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Основные результаты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Положения, выносимые на защи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ктуальность</a:t>
            </a:r>
            <a:br>
              <a:rPr sz="4000"/>
            </a:b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000080" y="1171080"/>
            <a:ext cx="800100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Times New Roman"/>
                <a:ea typeface="Calibri"/>
              </a:rPr>
              <a:t>В настоящее время в связи с интеграционными процессами (создание таможенного союза Республики Беларусь, Республики Казахстан и Российской Федерации) особую важность приобретает вопрос выработки нашей страной собственной парадигмы инновационного развития с учетом специфических особенностей белорусского государства. Недопустимой является подстройка под модели стран-партнеров по формируемому единому экономическому пространству, традиционное копирование и перенос в экономику подходов государств с экспортно-сырьевой моделью развития, а также низким уровнем инновационности. Целесообразным представляется учет опыта некоторых европейских стран с малой открытой экономикой </a:t>
            </a:r>
            <a:r>
              <a:rPr b="0" lang="ru-RU" sz="1900" spc="-1" strike="noStrike">
                <a:solidFill>
                  <a:srgbClr val="0000ff"/>
                </a:solidFill>
                <a:latin typeface="Arial"/>
                <a:ea typeface="Calibri"/>
              </a:rPr>
              <a:t>–</a:t>
            </a:r>
            <a:r>
              <a:rPr b="0" lang="ru-RU" sz="1900" spc="-1" strike="noStrike">
                <a:solidFill>
                  <a:srgbClr val="0000ff"/>
                </a:solidFill>
                <a:latin typeface="Times New Roman"/>
                <a:ea typeface="Calibri"/>
              </a:rPr>
              <a:t> лидеров инновационного развития, к тому же, сходных по многим параметрам с Республикой Беларусь </a:t>
            </a:r>
            <a:r>
              <a:rPr b="0" lang="ru-RU" sz="1900" spc="-1" strike="noStrike">
                <a:solidFill>
                  <a:srgbClr val="0000ff"/>
                </a:solidFill>
                <a:latin typeface="Arial"/>
                <a:ea typeface="Calibri"/>
              </a:rPr>
              <a:t>–</a:t>
            </a:r>
            <a:r>
              <a:rPr b="0" lang="ru-RU" sz="1900" spc="-1" strike="noStrike">
                <a:solidFill>
                  <a:srgbClr val="0000ff"/>
                </a:solidFill>
                <a:latin typeface="Times New Roman"/>
                <a:ea typeface="Calibri"/>
              </a:rPr>
              <a:t> прежде всего, в вопросах использования социального капитала в инновационном развит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бъект и предмет исследования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429000" y="1235520"/>
            <a:ext cx="4857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imes New Roman"/>
                <a:ea typeface="Calibri"/>
              </a:rPr>
              <a:t>Объект исследования: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инновационное развитие европейских стран с малой эконом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imes New Roman"/>
                <a:ea typeface="Calibri"/>
              </a:rPr>
              <a:t>Предмет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Использование социального капитала в инновационном развитии европейских стран с малой открытой эконом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Цель исследования</a:t>
            </a:r>
            <a:br>
              <a:rPr sz="4000"/>
            </a:b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2286000" y="1143000"/>
            <a:ext cx="607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теоретико-методологических основ обеспечения повышения роли социального капитала в инновационном развитии Республики Беларусь в контексте европейских технологических тенденций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2286000" y="1143000"/>
            <a:ext cx="607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теоретико-методологических основ обеспечения повышения роли социального капитала в инновационном развитии Республики Беларусь в контексте европейских технологических тенденций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Задачи исследования</a:t>
            </a:r>
            <a:br>
              <a:rPr sz="4000"/>
            </a:b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2286000" y="857160"/>
            <a:ext cx="66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 Определение теоретических основ использования теории социального капитала при исследовании инновационн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 Раскрытие сущности социального капитала как компонента. конфигурирования инновационного развития в европейских странах с малой эконом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 Выявление особенностей социального капитала в инновационном развитии Республики Беларусь в контексте европейских тенден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Научная гипотеза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3000240" y="1586880"/>
            <a:ext cx="471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1143000" y="1252800"/>
            <a:ext cx="78580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Calibri"/>
              </a:rPr>
              <a:t>Традиционно предполагается, что для достижения инновационного развития ключевым фактором являются, прежде всего, научно-технические достижения. Тем не менее, некоторыми европейскими странами с малой открытой экономикой убедительно доказано, что это условие является необходимым, но далеко не достаточным. Ключевым сегодня становится набор социальных предпосылок, формирующих благоприятную инновационную среду, стимулирующих новшества и подготавливающих общество к прогрессу. Важнейшим инструментом данных процессов являются человеческие ресурсы и социальный капит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Основные результаты</a:t>
            </a:r>
            <a:r>
              <a:rPr b="0" lang="ru-RU" sz="4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9752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7928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«Экономический детерминизм» (мейнстрим, ортодоксальные макроэкономические теории) не способен объяснить многие реалии общественной жизни, трудовых, социально-экономических, хозяйственных отношений, а также с опозданием реагирует на качественные изменения в самой экономике (в том числе, инновационный прогресс), поэтому при исследовании инновационных процессов необходимо использовать синергетический под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Социальный капитал наряду с человеческим и развитием развитие технологий в условиях современных институциональных тенденций является важнейшим фактором инновационного развития государства и одной из главных составляющих национального богат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Республике Беларусь необходимо ориентироваться на опыт ведущих европейских стран, сходных по экономическим параметрам с нашим государством, особенно в условиях создания единого экономического пространства с Российской Федерацией и Казахстаном, имеющими экспортно-сырьевые экономики и навязывающими свои экономико-политические стандарты</a:t>
            </a:r>
            <a:r>
              <a:rPr b="0" lang="ru-RU" sz="1700" spc="-1" strike="noStrike">
                <a:solidFill>
                  <a:srgbClr val="0000ff"/>
                </a:solidFill>
                <a:latin typeface="Times New Roman"/>
                <a:ea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Основные результаты</a:t>
            </a:r>
            <a:r>
              <a:rPr b="0" lang="ru-RU" sz="4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161000"/>
            <a:ext cx="885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7928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Социальный капитал как социально-экономический феномен выступает инструментом снижения трансакционных издержек, позволяя оптимизировать хозяйственные процессы и получать экономическую выгоду, в том числе и в инновационном разви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Положительными особенностями европейских стран с малой экономикой является очень высокий уровень качества жизни населения, а также развития науки, технологии, национальных инновационных систем, экспортного потенциала (причем высокотехнологичной продукции), что является следствием активного продукционного использования социального капит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Под инновациями в рамках теории социального капитала в обобщенном виде понимается любое новшество, которое позволяет получить дополнительные выгоды с такими же или меньшими затратами, причем этот эффект должен быть коммерциализиров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6:55:59Z</dcterms:created>
  <dc:creator>Администратор</dc:creator>
  <dc:description/>
  <dc:language>en-US</dc:language>
  <cp:lastModifiedBy>Acer</cp:lastModifiedBy>
  <dcterms:modified xsi:type="dcterms:W3CDTF">2011-12-07T09:04:51Z</dcterms:modified>
  <cp:revision>72</cp:revision>
  <dc:subject/>
  <dc:title>Социальный капитал как фактор инновационного развития европейских стран с малой экономикой</dc:title>
</cp:coreProperties>
</file>